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8FB-FF2D-43C5-8897-0F3A6484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D05-C3CE-485E-A245-058E790B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30B-07E3-48CC-B56A-C0F4F850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81C-DA94-4ECD-8F66-F19637D4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1534-E354-44B1-B401-EC447D41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E5E3-539D-45FC-941E-3875FA39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EFAB-E439-4E85-B0A5-031EA772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FA6F-D7B6-4C45-8D02-BD56B4C8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7C8D-876A-4296-B31D-0BA3D97C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EE64-A505-4C52-AD2D-67171065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BDEB-99EA-4780-8176-2FD0DDF4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775-3999-4F87-A999-CCD348FA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5AC7-0824-423C-B9A1-4F0F036F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753A-9290-402F-8D03-2F6B343D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E39A-C516-4A5E-98FD-DDF985C1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EC81-72AC-4D4B-B525-EA8843E5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3756-C0E6-47BA-9BAD-FF475458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ABC7-1772-4E70-8FA4-A13A8581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3582D-D199-4003-B6B9-C816DE8E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C694E-9A1E-427D-BF5C-E59E8A53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BB89C-069B-4D53-82E3-DE2514DF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DC505-1901-4122-B7DC-FA6BE9A8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BFF-491D-474A-A1BC-D2A6CBCB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1D73D-4284-4DD2-BF77-F51BD7B3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D3D11-8F03-4250-ABCD-0C451A4A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3819D-7D75-4F0C-BC26-CCFEFF94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076AA-B7CD-4075-86B8-F21E3847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8042B-BB5E-4D18-B930-2D68A70F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F0035-7B72-4C34-8D56-1D9C175A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D0C7E-E182-4B62-BD8F-C6B7111F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AF02-3A4E-4360-A176-14626D50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FD9-0184-4CB8-9F04-82B30B96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CA3-1143-43CA-9BC3-B4275E71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D130-3A66-4370-825F-9F1BB643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F46-D8C4-4496-9977-A85A0D14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1855-90F3-4F47-8F41-CC0E01B7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211A-4659-46C8-8969-4C83A4DA2796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30E6-0F81-4118-A905-5F2252DEBDD6}" type="slidenum">
              <a:rPr b="0" lang="ru-RU" sz="1200" spc="-1" strike="noStrike">
                <a:solidFill>
                  <a:srgbClr val="cce1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9E9B-864B-43DE-98B2-CB2C299B4355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08000" y="1125360"/>
            <a:ext cx="8856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Результаты                                пробного ЕГЭ по русскому языку, проведённого </a:t>
            </a:r>
            <a:r>
              <a:rPr b="1" lang="en-US" sz="52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 декабря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0</a:t>
            </a:r>
            <a:r>
              <a:rPr b="1" lang="en-US" sz="5200" spc="-1" strike="noStrike">
                <a:solidFill>
                  <a:srgbClr val="ff0000"/>
                </a:solidFill>
                <a:latin typeface="Monotype Corsiva"/>
              </a:rPr>
              <a:t>21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года и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9</a:t>
            </a:r>
            <a:r>
              <a:rPr b="1" lang="ru-RU" sz="5200" spc="-1" strike="noStrike">
                <a:solidFill>
                  <a:srgbClr val="0000ff"/>
                </a:solidFill>
                <a:latin typeface="Monotype Corsiva"/>
              </a:rPr>
              <a:t> марта </a:t>
            </a:r>
            <a:r>
              <a:rPr b="1" lang="ru-RU" sz="5200" spc="-1" strike="noStrike">
                <a:solidFill>
                  <a:srgbClr val="ff0000"/>
                </a:solidFill>
                <a:latin typeface="Monotype Corsiva"/>
              </a:rPr>
              <a:t>2022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250920" y="-1764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Отражение позиции автора(К3). Отношение к позиции автора (К4). Смысловая цельность, речевая связность и последовательность изложения (К5). Точность и выразительность речи (К6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8000" y="1569960"/>
          <a:ext cx="8832960" cy="5157720"/>
        </p:xfrm>
        <a:graphic>
          <a:graphicData uri="http://schemas.openxmlformats.org/drawingml/2006/table">
            <a:tbl>
              <a:tblPr/>
              <a:tblGrid>
                <a:gridCol w="430200"/>
                <a:gridCol w="2030400"/>
                <a:gridCol w="703080"/>
                <a:gridCol w="633600"/>
                <a:gridCol w="633240"/>
                <a:gridCol w="776520"/>
                <a:gridCol w="696960"/>
                <a:gridCol w="720720"/>
                <a:gridCol w="720720"/>
                <a:gridCol w="718920"/>
                <a:gridCol w="76860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50920" y="-17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облюдение орфографических норм(К7). Соблюдение пунктуационных норм (К8). Соблюдение грамматических норм (К9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8000" y="1569960"/>
          <a:ext cx="8864640" cy="5157720"/>
        </p:xfrm>
        <a:graphic>
          <a:graphicData uri="http://schemas.openxmlformats.org/drawingml/2006/table">
            <a:tbl>
              <a:tblPr/>
              <a:tblGrid>
                <a:gridCol w="430200"/>
                <a:gridCol w="2030400"/>
                <a:gridCol w="703080"/>
                <a:gridCol w="633600"/>
                <a:gridCol w="631800"/>
                <a:gridCol w="777960"/>
                <a:gridCol w="696960"/>
                <a:gridCol w="720720"/>
                <a:gridCol w="752400"/>
                <a:gridCol w="718920"/>
                <a:gridCol w="76860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50920" y="-17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облюдение речевых норм(К10). Соблюдение этических норм (К11). Соблюдение фактологической точности в фоновом материале (К12).  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8000" y="1569960"/>
          <a:ext cx="8856720" cy="5157720"/>
        </p:xfrm>
        <a:graphic>
          <a:graphicData uri="http://schemas.openxmlformats.org/drawingml/2006/table">
            <a:tbl>
              <a:tblPr/>
              <a:tblGrid>
                <a:gridCol w="514440"/>
                <a:gridCol w="2433600"/>
                <a:gridCol w="842760"/>
                <a:gridCol w="758880"/>
                <a:gridCol w="757440"/>
                <a:gridCol w="931680"/>
                <a:gridCol w="835200"/>
                <a:gridCol w="861840"/>
                <a:gridCol w="92088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9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Процент выполнения заданий </a:t>
            </a:r>
            <a:br>
              <a:rPr sz="3200"/>
            </a:br>
            <a:r>
              <a:rPr b="1" lang="ru-RU" sz="32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29 марта 2022 года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68" name="Объект 5"/>
          <p:cNvGraphicFramePr/>
          <p:nvPr/>
        </p:nvGraphicFramePr>
        <p:xfrm>
          <a:off x="406440" y="1001880"/>
          <a:ext cx="8331120" cy="537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001880"/>
                    <a:ext cx="8331120" cy="53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9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1" name="Объект 8"/>
          <p:cNvGraphicFramePr/>
          <p:nvPr/>
        </p:nvGraphicFramePr>
        <p:xfrm>
          <a:off x="406440" y="1146240"/>
          <a:ext cx="8331120" cy="52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Объект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146240"/>
                    <a:ext cx="833112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Объект 6"/>
          <p:cNvGraphicFramePr/>
          <p:nvPr/>
        </p:nvGraphicFramePr>
        <p:xfrm>
          <a:off x="406440" y="654120"/>
          <a:ext cx="8331120" cy="57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654120"/>
                    <a:ext cx="8331120" cy="57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71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6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3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79" name="Объект 5"/>
          <p:cNvGraphicFramePr/>
          <p:nvPr/>
        </p:nvGraphicFramePr>
        <p:xfrm>
          <a:off x="406440" y="1290600"/>
          <a:ext cx="8331120" cy="508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290600"/>
                    <a:ext cx="833112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3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2" name="Объект 5"/>
          <p:cNvGraphicFramePr/>
          <p:nvPr/>
        </p:nvGraphicFramePr>
        <p:xfrm>
          <a:off x="406440" y="1433520"/>
          <a:ext cx="8331120" cy="49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433520"/>
                    <a:ext cx="833112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Формулировка проблемы исходного текста (К1), </a:t>
            </a:r>
            <a:br>
              <a:rPr sz="2000"/>
            </a:b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комментарий к сформулированной проблеме (К2)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5" name="Объект 5"/>
          <p:cNvGraphicFramePr/>
          <p:nvPr/>
        </p:nvGraphicFramePr>
        <p:xfrm>
          <a:off x="406440" y="1577880"/>
          <a:ext cx="8331120" cy="479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77880"/>
                    <a:ext cx="833112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79280" y="1052640"/>
            <a:ext cx="878544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В пробном ЕГЭ по русскому языку приняли участ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59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(40) </a:t>
            </a: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человек  из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11( 8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общеобразовательных учреждений  рай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Авторская позиция (А3), отношение к авторской позиции (К4), смысловая цельность, речевая связность и последовательность изложения (К5), </a:t>
            </a:r>
            <a:br>
              <a:rPr sz="1800"/>
            </a:b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точность и выразительность речи (К6)</a:t>
            </a:r>
            <a:endParaRPr b="0" lang="en-US" sz="18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88" name="Объект 5"/>
          <p:cNvGraphicFramePr/>
          <p:nvPr/>
        </p:nvGraphicFramePr>
        <p:xfrm>
          <a:off x="406440" y="1506600"/>
          <a:ext cx="8331120" cy="48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506600"/>
                    <a:ext cx="8331120" cy="48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Орфографические нормы (К7), пунктуационные нормы (К8), грамматические нормы (К9)</a:t>
            </a:r>
            <a:endParaRPr b="0" lang="en-US" sz="2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91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Times New Roman"/>
                <a:ea typeface="Times New Roman"/>
              </a:rPr>
              <a:t>Речевые нормы (К10), этические нормы (К11), фактическая точность (К12)</a:t>
            </a:r>
            <a:endParaRPr b="0" lang="en-US" sz="18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94" name="Объект 5"/>
          <p:cNvGraphicFramePr/>
          <p:nvPr/>
        </p:nvGraphicFramePr>
        <p:xfrm>
          <a:off x="406440" y="1884240"/>
          <a:ext cx="83311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84240"/>
                    <a:ext cx="83311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755640" y="907920"/>
            <a:ext cx="775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Процент выполнения работы выглядит 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15880" y="2349360"/>
          <a:ext cx="8229600" cy="3718080"/>
        </p:xfrm>
        <a:graphic>
          <a:graphicData uri="http://schemas.openxmlformats.org/drawingml/2006/table">
            <a:tbl>
              <a:tblPr/>
              <a:tblGrid>
                <a:gridCol w="4337280"/>
                <a:gridCol w="389232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еодолели порог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нее 16 баллов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 (2) ученика (5,1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(12) учеников (28,8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7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(24) ученика (55,9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 и боле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2)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овек (10,2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6922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оличество баллов (первичных), набр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учащимися в разрезе ш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79280" y="1557360"/>
          <a:ext cx="8713800" cy="5122800"/>
        </p:xfrm>
        <a:graphic>
          <a:graphicData uri="http://schemas.openxmlformats.org/drawingml/2006/table">
            <a:tbl>
              <a:tblPr/>
              <a:tblGrid>
                <a:gridCol w="3490920"/>
                <a:gridCol w="1785960"/>
                <a:gridCol w="844560"/>
                <a:gridCol w="863640"/>
                <a:gridCol w="865080"/>
                <a:gridCol w="863640"/>
              </a:tblGrid>
              <a:tr h="87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15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-29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45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58 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рхнеусло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атюш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.Моркваш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меминская СОШ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того по райо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108000" y="0"/>
            <a:ext cx="92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тилистический анализ текста. Средства связи предлож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лексическое значение слова. Орфоэп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Лексические нормы. Грамматические нормы (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max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5б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8000" y="1569960"/>
          <a:ext cx="8856720" cy="5027760"/>
        </p:xfrm>
        <a:graphic>
          <a:graphicData uri="http://schemas.openxmlformats.org/drawingml/2006/table">
            <a:tbl>
              <a:tblPr/>
              <a:tblGrid>
                <a:gridCol w="446040"/>
                <a:gridCol w="2073240"/>
                <a:gridCol w="792360"/>
                <a:gridCol w="792000"/>
                <a:gridCol w="792000"/>
                <a:gridCol w="792360"/>
                <a:gridCol w="792000"/>
                <a:gridCol w="792360"/>
                <a:gridCol w="792000"/>
                <a:gridCol w="792360"/>
              </a:tblGrid>
              <a:tr h="5540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10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250920" y="-17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Орф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8000" y="1569960"/>
          <a:ext cx="8640720" cy="5118120"/>
        </p:xfrm>
        <a:graphic>
          <a:graphicData uri="http://schemas.openxmlformats.org/drawingml/2006/table">
            <a:tbl>
              <a:tblPr/>
              <a:tblGrid>
                <a:gridCol w="446040"/>
                <a:gridCol w="2073240"/>
                <a:gridCol w="936720"/>
                <a:gridCol w="863640"/>
                <a:gridCol w="792000"/>
                <a:gridCol w="936720"/>
                <a:gridCol w="863640"/>
                <a:gridCol w="865080"/>
                <a:gridCol w="86364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9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250920" y="-17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ункту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8000" y="1569960"/>
          <a:ext cx="8856720" cy="5118120"/>
        </p:xfrm>
        <a:graphic>
          <a:graphicData uri="http://schemas.openxmlformats.org/drawingml/2006/table">
            <a:tbl>
              <a:tblPr/>
              <a:tblGrid>
                <a:gridCol w="457200"/>
                <a:gridCol w="2125440"/>
                <a:gridCol w="1254240"/>
                <a:gridCol w="1033560"/>
                <a:gridCol w="1181160"/>
                <a:gridCol w="885600"/>
                <a:gridCol w="1033560"/>
                <a:gridCol w="88596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8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250920" y="-17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й по общеобразовательным учреждениям. Анализ текста. Содержание текста, типы речи, значение слов, средства связи пред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редства выразительности речи (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</a:rPr>
              <a:t>max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4 б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8000" y="1569960"/>
          <a:ext cx="8640720" cy="5118120"/>
        </p:xfrm>
        <a:graphic>
          <a:graphicData uri="http://schemas.openxmlformats.org/drawingml/2006/table">
            <a:tbl>
              <a:tblPr/>
              <a:tblGrid>
                <a:gridCol w="446040"/>
                <a:gridCol w="2289240"/>
                <a:gridCol w="1368360"/>
                <a:gridCol w="1224000"/>
                <a:gridCol w="1297080"/>
                <a:gridCol w="1008000"/>
                <a:gridCol w="1008000"/>
              </a:tblGrid>
              <a:tr h="52344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8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7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250920" y="-17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Результат выполнения задания  27 (сочинение – рассуж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Формулировка проблем исходного текста (К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Комментарий к сформулированной проблеме исходного текста (К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в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8000" y="1569960"/>
          <a:ext cx="8709120" cy="4956120"/>
        </p:xfrm>
        <a:graphic>
          <a:graphicData uri="http://schemas.openxmlformats.org/drawingml/2006/table">
            <a:tbl>
              <a:tblPr/>
              <a:tblGrid>
                <a:gridCol w="439560"/>
                <a:gridCol w="2079720"/>
                <a:gridCol w="720720"/>
                <a:gridCol w="647640"/>
                <a:gridCol w="647640"/>
                <a:gridCol w="720720"/>
                <a:gridCol w="720720"/>
                <a:gridCol w="792360"/>
                <a:gridCol w="647640"/>
                <a:gridCol w="706320"/>
                <a:gridCol w="586080"/>
              </a:tblGrid>
              <a:tr h="268560"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Иннопо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слонская гимн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Моркваш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анг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у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гуз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алов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72880" indent="-2728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Мем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11"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4:21:33Z</dcterms:created>
  <dc:creator>Елена</dc:creator>
  <dc:description/>
  <dc:language>en-US</dc:language>
  <cp:lastModifiedBy>user</cp:lastModifiedBy>
  <dcterms:modified xsi:type="dcterms:W3CDTF">2022-04-14T19:11:33Z</dcterms:modified>
  <cp:revision>205</cp:revision>
  <dc:subject/>
  <dc:title>Этапы компьютерного моделирования</dc:title>
</cp:coreProperties>
</file>