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95A-2F33-4C4C-A3C5-E773849B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DDF-D00D-4C3F-A434-307DC03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39C-7772-481E-BE79-CCE09183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710-F1C9-4A55-A56F-733F08A0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2043-270F-4576-BDCD-AE12CD3F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348B-13F2-45A7-B376-7CA0F3D1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50C7-7F83-4FC0-ABF1-4D83F810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6A3D-9E70-4770-8ABA-0C7E3E3D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A3BF-74FE-4603-9AB8-3627C588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22CD-1F56-4779-A96E-49B972C0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51AA-00A4-41AD-93CC-9A7C994E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BFB-A342-4341-9DB8-50393144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3D78-C716-465F-B91F-76E33344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C155-2DF7-48F7-8446-ABA70F53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8E1E-B7BF-4DE8-811B-FB38A4F6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1778-FA0F-4792-9444-C143C403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E9CF-3BB0-4FA4-B946-B581D299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969E-0003-4885-9FCB-BCBDEBD1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7760-D86B-40A0-8E05-41DD7DEC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90E9-6880-4D88-A3B9-0406D5C9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0CCB-843C-47FD-AE36-4EF0700A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B9F8-EADB-4829-B690-98CDA06C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793-8F5F-4976-A4F7-9FAA773E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5221-ECC2-47EB-BDD0-FDA47241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DB9A-7DE6-4AEB-BB9C-F763ED7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CA1B-ED44-4290-A155-A9D87802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6DB7-58CD-44CD-8BB2-69393827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5649-AB9F-4518-8D0C-D686EFAD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FCAD2-0675-4FDB-ADE2-250395F3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A0143-2FC2-495B-A6DD-E2511244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A04-A924-4EEC-9C60-E560076D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491-1D09-4250-9871-70857878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918-9756-4DE3-90DE-DBF9D0FF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996-9CAE-4317-AA33-EFDAF24F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782-800D-4346-BAB0-AB8487D5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88E-239C-4809-9B86-A7D6935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A500-2B51-4906-81B8-74DC942BF912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382F-1110-459B-9481-3C5CBFA5A411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2BD9-A81D-4FB8-AEB2-E03D31FC212F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ЕГЭ по русскому языку, проведённого 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декабря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и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22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50920" y="-17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тражение позиции автора(К3). Отношение к позиции автора (К4). Смысловая цельность, речевая связность и последовательность изложения (К5). Точность и выразительность речи (К6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1569960"/>
          <a:ext cx="883296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3240"/>
                <a:gridCol w="776520"/>
                <a:gridCol w="696960"/>
                <a:gridCol w="720720"/>
                <a:gridCol w="72072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орфографических норм(К7). Соблюдение пунктуационных норм (К8). Соблюдение грамматических норм (К9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569960"/>
          <a:ext cx="886464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1800"/>
                <a:gridCol w="777960"/>
                <a:gridCol w="696960"/>
                <a:gridCol w="720720"/>
                <a:gridCol w="75240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речевых норм(К10). Соблюдение этических норм (К11). Соблюдение фактологической точности в фоновом материале (К12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569960"/>
          <a:ext cx="8856720" cy="5157720"/>
        </p:xfrm>
        <a:graphic>
          <a:graphicData uri="http://schemas.openxmlformats.org/drawingml/2006/table">
            <a:tbl>
              <a:tblPr/>
              <a:tblGrid>
                <a:gridCol w="514440"/>
                <a:gridCol w="2433600"/>
                <a:gridCol w="842760"/>
                <a:gridCol w="758880"/>
                <a:gridCol w="757440"/>
                <a:gridCol w="931680"/>
                <a:gridCol w="835200"/>
                <a:gridCol w="861840"/>
                <a:gridCol w="9208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оцент выполнения заданий </a:t>
            </a:r>
            <a:br>
              <a:rPr sz="3200"/>
            </a:b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29 марта 2022 года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68" name="Объект 5"/>
          <p:cNvGraphicFramePr/>
          <p:nvPr/>
        </p:nvGraphicFramePr>
        <p:xfrm>
          <a:off x="406440" y="1001880"/>
          <a:ext cx="8331120" cy="53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001880"/>
                    <a:ext cx="8331120" cy="53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1" name="Объект 8"/>
          <p:cNvGraphicFramePr/>
          <p:nvPr/>
        </p:nvGraphicFramePr>
        <p:xfrm>
          <a:off x="406440" y="1146240"/>
          <a:ext cx="8331120" cy="52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146240"/>
                    <a:ext cx="833112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Объект 6"/>
          <p:cNvGraphicFramePr/>
          <p:nvPr/>
        </p:nvGraphicFramePr>
        <p:xfrm>
          <a:off x="406440" y="654120"/>
          <a:ext cx="8331120" cy="57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654120"/>
                    <a:ext cx="8331120" cy="57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6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9" name="Объект 5"/>
          <p:cNvGraphicFramePr/>
          <p:nvPr/>
        </p:nvGraphicFramePr>
        <p:xfrm>
          <a:off x="406440" y="1290600"/>
          <a:ext cx="83311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90600"/>
                    <a:ext cx="83311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2" name="Объект 5"/>
          <p:cNvGraphicFramePr/>
          <p:nvPr/>
        </p:nvGraphicFramePr>
        <p:xfrm>
          <a:off x="406440" y="1433520"/>
          <a:ext cx="8331120" cy="49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433520"/>
                    <a:ext cx="83311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Формулировка проблемы исходного текста (К1), </a:t>
            </a:r>
            <a:br>
              <a:rPr sz="2000"/>
            </a:b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комментарий к сформулированной проблеме (К2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5" name="Объект 5"/>
          <p:cNvGraphicFramePr/>
          <p:nvPr/>
        </p:nvGraphicFramePr>
        <p:xfrm>
          <a:off x="406440" y="1577880"/>
          <a:ext cx="833112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77880"/>
                    <a:ext cx="8331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ЕГЭ по русскому языку приняли участ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59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(40) 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еловек  из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11( 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общеобразовательных учреждений 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Авторская позиция (А3), отношение к авторской позиции (К4), смысловая цельность, речевая связность и последовательность изложения (К5), </a:t>
            </a:r>
            <a:br>
              <a:rPr sz="1800"/>
            </a:b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точность и выразительность речи (К6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8" name="Объект 5"/>
          <p:cNvGraphicFramePr/>
          <p:nvPr/>
        </p:nvGraphicFramePr>
        <p:xfrm>
          <a:off x="406440" y="1506600"/>
          <a:ext cx="8331120" cy="48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06600"/>
                    <a:ext cx="83311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Орфографические нормы (К7), пунктуационные нормы (К8), грамматические нормы (К9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1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Речевые нормы (К10), этические нормы (К11), фактическая точность (К12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4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роцент выполнения работы выглядит 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5880" y="2349360"/>
          <a:ext cx="8229600" cy="3718080"/>
        </p:xfrm>
        <a:graphic>
          <a:graphicData uri="http://schemas.openxmlformats.org/drawingml/2006/table">
            <a:tbl>
              <a:tblPr/>
              <a:tblGrid>
                <a:gridCol w="4337280"/>
                <a:gridCol w="38923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порог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нее 16 балло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 (2) ученика (5,1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(12) учеников (28,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(24) ученика (55,9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 и боле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2)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(10,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692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личество баллов (первичных), набр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чащимися в разрезе ш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557360"/>
          <a:ext cx="8713800" cy="5122800"/>
        </p:xfrm>
        <a:graphic>
          <a:graphicData uri="http://schemas.openxmlformats.org/drawingml/2006/table">
            <a:tbl>
              <a:tblPr/>
              <a:tblGrid>
                <a:gridCol w="3490920"/>
                <a:gridCol w="1785960"/>
                <a:gridCol w="844560"/>
                <a:gridCol w="863640"/>
                <a:gridCol w="865080"/>
                <a:gridCol w="863640"/>
              </a:tblGrid>
              <a:tr h="87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-29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8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юш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.Моркваш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08000" y="0"/>
            <a:ext cx="92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тилистический анализ текста. Средства связи предло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ое значение слова. Орфоэ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ие нормы. Грамматические нормы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5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1569960"/>
          <a:ext cx="8856720" cy="502776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792360"/>
                <a:gridCol w="792000"/>
                <a:gridCol w="792000"/>
                <a:gridCol w="792360"/>
                <a:gridCol w="792000"/>
                <a:gridCol w="792360"/>
                <a:gridCol w="792000"/>
                <a:gridCol w="792360"/>
              </a:tblGrid>
              <a:tr h="5540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10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рф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936720"/>
                <a:gridCol w="863640"/>
                <a:gridCol w="792000"/>
                <a:gridCol w="936720"/>
                <a:gridCol w="863640"/>
                <a:gridCol w="865080"/>
                <a:gridCol w="86364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69960"/>
          <a:ext cx="8856720" cy="5118120"/>
        </p:xfrm>
        <a:graphic>
          <a:graphicData uri="http://schemas.openxmlformats.org/drawingml/2006/table">
            <a:tbl>
              <a:tblPr/>
              <a:tblGrid>
                <a:gridCol w="457200"/>
                <a:gridCol w="2125440"/>
                <a:gridCol w="1254240"/>
                <a:gridCol w="1033560"/>
                <a:gridCol w="1181160"/>
                <a:gridCol w="885600"/>
                <a:gridCol w="1033560"/>
                <a:gridCol w="88596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8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 Анализ текста. Содержание текста, типы речи, значение слов, средства связи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редства выразительности речи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4 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289240"/>
                <a:gridCol w="1368360"/>
                <a:gridCol w="1224000"/>
                <a:gridCol w="1297080"/>
                <a:gridCol w="1008000"/>
                <a:gridCol w="100800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7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Формулировка проблем исходного текста (К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омментарий к сформулированной проблеме исходного текста (К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8000" y="1569960"/>
          <a:ext cx="8709120" cy="4956120"/>
        </p:xfrm>
        <a:graphic>
          <a:graphicData uri="http://schemas.openxmlformats.org/drawingml/2006/table">
            <a:tbl>
              <a:tblPr/>
              <a:tblGrid>
                <a:gridCol w="439560"/>
                <a:gridCol w="2079720"/>
                <a:gridCol w="720720"/>
                <a:gridCol w="647640"/>
                <a:gridCol w="647640"/>
                <a:gridCol w="720720"/>
                <a:gridCol w="720720"/>
                <a:gridCol w="792360"/>
                <a:gridCol w="647640"/>
                <a:gridCol w="706320"/>
                <a:gridCol w="5860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user</cp:lastModifiedBy>
  <dcterms:modified xsi:type="dcterms:W3CDTF">2022-04-14T19:11:33Z</dcterms:modified>
  <cp:revision>205</cp:revision>
  <dc:subject/>
  <dc:title>Этапы компьютерного моделирования</dc:title>
</cp:coreProperties>
</file>