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45B12-82FE-4547-8482-BE2011D844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7E754-1478-4FD0-B726-CD9AB2ABB5B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E48A-A19A-4930-9722-9367B388D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E6A2-F4FE-4482-99B8-F6F87375C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E665-4531-4B99-9CE4-7186431C3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6CC5-C69C-41A5-B472-72F532421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DD6A-8E87-4BA6-B1BB-4E9F63999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D17B-4C3D-4509-BE88-79BCF73C6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87D4-954C-4ADB-B5E1-7EDCD9227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93A1-B292-45C1-9BF9-504AD2424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6DB5-CC56-43F3-A764-023334214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A766-F70A-4C91-8AA0-0276EB4A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AC30-25E7-4014-8224-4ABBF24E0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0021-E211-4A3F-AD3F-7563C2EA0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FC4E8-82B5-49B2-976B-16F66388C2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324000" y="-379080"/>
            <a:ext cx="8569080" cy="62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Monotype Corsiva"/>
              </a:rPr>
              <a:t>Результаты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Monotype Corsiva"/>
              </a:rPr>
              <a:t>пробного ОГЭ по русскому языку, проведённого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11</a:t>
            </a:r>
            <a:r>
              <a:rPr b="1" lang="ru-RU" sz="4800" spc="-1" strike="noStrike">
                <a:solidFill>
                  <a:srgbClr val="333399"/>
                </a:solidFill>
                <a:latin typeface="Monotype Corsiva"/>
              </a:rPr>
              <a:t> декабря </a:t>
            </a: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20</a:t>
            </a:r>
            <a:r>
              <a:rPr b="1" lang="en-US" sz="4800" spc="-1" strike="noStrike">
                <a:solidFill>
                  <a:srgbClr val="ff0000"/>
                </a:solidFill>
                <a:latin typeface="Monotype Corsiva"/>
              </a:rPr>
              <a:t>21</a:t>
            </a:r>
            <a:r>
              <a:rPr b="1" lang="ru-RU" sz="4800" spc="-1" strike="noStrike">
                <a:solidFill>
                  <a:srgbClr val="333399"/>
                </a:solidFill>
                <a:latin typeface="Monotype Corsiva"/>
              </a:rPr>
              <a:t> года и </a:t>
            </a: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29</a:t>
            </a:r>
            <a:r>
              <a:rPr b="1" lang="ru-RU" sz="4800" spc="-1" strike="noStrike">
                <a:solidFill>
                  <a:srgbClr val="333399"/>
                </a:solidFill>
                <a:latin typeface="Monotype Corsiva"/>
              </a:rPr>
              <a:t> марта </a:t>
            </a: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202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108000" y="825480"/>
          <a:ext cx="8567640" cy="5926320"/>
        </p:xfrm>
        <a:graphic>
          <a:graphicData uri="http://schemas.openxmlformats.org/drawingml/2006/table">
            <a:tbl>
              <a:tblPr/>
              <a:tblGrid>
                <a:gridCol w="3271680"/>
                <a:gridCol w="1324080"/>
                <a:gridCol w="1324080"/>
                <a:gridCol w="1323720"/>
                <a:gridCol w="1324080"/>
              </a:tblGrid>
              <a:tr h="284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1  (2б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2  (3б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3  (2б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4  (2б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47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238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41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.Моркваш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238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5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.Бурнаше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238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380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неусло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238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255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89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ищи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12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Слобод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937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Школа Иннополи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69" name="TextBox 3"/>
          <p:cNvSpPr/>
          <p:nvPr/>
        </p:nvSpPr>
        <p:spPr>
          <a:xfrm>
            <a:off x="0" y="0"/>
            <a:ext cx="892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Результаты   выполнения   заданий   </a:t>
            </a:r>
            <a:r>
              <a:rPr b="1" lang="ru-RU" sz="2400" spc="-1" strike="noStrike">
                <a:solidFill>
                  <a:srgbClr val="ff0000"/>
                </a:solidFill>
                <a:latin typeface="Monotype Corsiva"/>
              </a:rPr>
              <a:t>сочинения-рассуж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Сочинение-рассуждение (СК1-СК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Объект 5"/>
          <p:cNvGraphicFramePr/>
          <p:nvPr/>
        </p:nvGraphicFramePr>
        <p:xfrm>
          <a:off x="406440" y="1549440"/>
          <a:ext cx="8331120" cy="462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549440"/>
                    <a:ext cx="8331120" cy="46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108000" y="825480"/>
          <a:ext cx="8640720" cy="5869080"/>
        </p:xfrm>
        <a:graphic>
          <a:graphicData uri="http://schemas.openxmlformats.org/drawingml/2006/table">
            <a:tbl>
              <a:tblPr/>
              <a:tblGrid>
                <a:gridCol w="2857320"/>
                <a:gridCol w="1157400"/>
                <a:gridCol w="1155600"/>
                <a:gridCol w="1157400"/>
                <a:gridCol w="1155600"/>
                <a:gridCol w="1157400"/>
              </a:tblGrid>
              <a:tr h="284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К1 (2б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К2 (2б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К3 (2б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К4 (2б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К1 (2б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349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367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11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.Моркваш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36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367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.Бурнаше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349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неусло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251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89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ищи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349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Слобод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937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Школа Иннополи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74" name="TextBox 3"/>
          <p:cNvSpPr/>
          <p:nvPr/>
        </p:nvSpPr>
        <p:spPr>
          <a:xfrm>
            <a:off x="0" y="0"/>
            <a:ext cx="892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Результаты   выполнения   заданий   </a:t>
            </a:r>
            <a:r>
              <a:rPr b="1" lang="ru-RU" sz="2400" spc="-1" strike="noStrike">
                <a:solidFill>
                  <a:srgbClr val="ff0000"/>
                </a:solidFill>
                <a:latin typeface="Monotype Corsiva"/>
              </a:rPr>
              <a:t>по грамотности и фактической точности экзаменуем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Monotype Corsiva"/>
              </a:rPr>
              <a:t>Грамотность и фактическая точность экзаменуемого (ГК1-ГК4, ФК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Объект 5"/>
          <p:cNvGraphicFramePr/>
          <p:nvPr/>
        </p:nvGraphicFramePr>
        <p:xfrm>
          <a:off x="406440" y="1549440"/>
          <a:ext cx="8331120" cy="462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549440"/>
                    <a:ext cx="8331120" cy="46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5"/>
          <p:cNvSpPr/>
          <p:nvPr/>
        </p:nvSpPr>
        <p:spPr>
          <a:xfrm>
            <a:off x="395280" y="189000"/>
            <a:ext cx="8424720" cy="20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 Rounded MT Bold"/>
              </a:rPr>
              <a:t>Общие результаты выполнения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 Rounded MT Bold"/>
              </a:rPr>
              <a:t>пробного экзамен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 Rounded MT Bold"/>
              </a:rPr>
              <a:t>по Верхнеуслонскому муниципальному район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24000" y="2060640"/>
          <a:ext cx="8496000" cy="4052880"/>
        </p:xfrm>
        <a:graphic>
          <a:graphicData uri="http://schemas.openxmlformats.org/drawingml/2006/table">
            <a:tbl>
              <a:tblPr/>
              <a:tblGrid>
                <a:gridCol w="1654200"/>
                <a:gridCol w="1779480"/>
                <a:gridCol w="1265040"/>
                <a:gridCol w="1266840"/>
                <a:gridCol w="1263600"/>
                <a:gridCol w="1266840"/>
              </a:tblGrid>
              <a:tr h="914760">
                <a:tc rowSpan="2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проведе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заме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щихся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дававших экзаме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заменационная отметка в % от числа учащихся, сдававших экзаме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5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«2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«3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«4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«5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12.20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.03.20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8 (5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 (9,7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7 (47,5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9 (47,6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9999"/>
                        </a:buClr>
                        <a:buFont typeface="Times New Roman"/>
                        <a:buAutoNum type="arabicPlain" startAt="3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(27,5</a:t>
                      </a:r>
                      <a:r>
                        <a:rPr b="1" lang="en-US" sz="16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ru-RU" sz="16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9999"/>
                        </a:buClr>
                        <a:buFont typeface="Times New Roman"/>
                        <a:buAutoNum type="arabicPlain" startAt="3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32  (31,1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2 (1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2  (11,7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 gridSpan="2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певаем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8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90,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320">
                <a:tc gridSpan="2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чество зна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37,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42, 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12"/>
          <p:cNvSpPr/>
          <p:nvPr/>
        </p:nvSpPr>
        <p:spPr>
          <a:xfrm>
            <a:off x="900000" y="260280"/>
            <a:ext cx="75596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Monotype Corsiva"/>
              </a:rPr>
              <a:t>Результаты по общеобразовательным учреждения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08000" y="765000"/>
          <a:ext cx="8856720" cy="5772240"/>
        </p:xfrm>
        <a:graphic>
          <a:graphicData uri="http://schemas.openxmlformats.org/drawingml/2006/table">
            <a:tbl>
              <a:tblPr/>
              <a:tblGrid>
                <a:gridCol w="399960"/>
                <a:gridCol w="2551320"/>
                <a:gridCol w="1412640"/>
                <a:gridCol w="1123920"/>
                <a:gridCol w="1123920"/>
                <a:gridCol w="1122480"/>
                <a:gridCol w="1122480"/>
              </a:tblGrid>
              <a:tr h="30492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\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учащихся, писавших экзаме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4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«5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«4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3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«2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.Моркваш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т.Бурнаше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неуслонская О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ищинская О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Слободская О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кола Иннополи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о район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50"/>
          <p:cNvSpPr/>
          <p:nvPr/>
        </p:nvSpPr>
        <p:spPr>
          <a:xfrm>
            <a:off x="826920" y="115920"/>
            <a:ext cx="7848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Monotype Corsiva"/>
              </a:rPr>
              <a:t>Средняя оценка по общеобразовательным учреждения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79280" y="836640"/>
          <a:ext cx="8785440" cy="5761080"/>
        </p:xfrm>
        <a:graphic>
          <a:graphicData uri="http://schemas.openxmlformats.org/drawingml/2006/table">
            <a:tbl>
              <a:tblPr/>
              <a:tblGrid>
                <a:gridCol w="619200"/>
                <a:gridCol w="5208480"/>
                <a:gridCol w="2957760"/>
              </a:tblGrid>
              <a:tr h="676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\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яя оцен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ережно-Моркваш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тарско-Бурнаше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неусло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ищи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Слобод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кола Иннополи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стовая часть (№2-№8)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x 1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. 20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3"/>
          <p:cNvGraphicFramePr/>
          <p:nvPr/>
        </p:nvGraphicFramePr>
        <p:xfrm>
          <a:off x="457200" y="1557360"/>
          <a:ext cx="8229600" cy="439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57360"/>
                    <a:ext cx="8229600" cy="43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Тестовая часть (задания 2-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Объект 5"/>
          <p:cNvGraphicFramePr/>
          <p:nvPr/>
        </p:nvGraphicFramePr>
        <p:xfrm>
          <a:off x="406440" y="1549440"/>
          <a:ext cx="8331120" cy="462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549440"/>
                    <a:ext cx="8331120" cy="46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08000" y="825480"/>
          <a:ext cx="8712000" cy="5843520"/>
        </p:xfrm>
        <a:graphic>
          <a:graphicData uri="http://schemas.openxmlformats.org/drawingml/2006/table">
            <a:tbl>
              <a:tblPr/>
              <a:tblGrid>
                <a:gridCol w="2273400"/>
                <a:gridCol w="919080"/>
                <a:gridCol w="919080"/>
                <a:gridCol w="920880"/>
                <a:gridCol w="919080"/>
                <a:gridCol w="919080"/>
                <a:gridCol w="920880"/>
                <a:gridCol w="920520"/>
              </a:tblGrid>
              <a:tr h="284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349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367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11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.Моркваш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36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367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.Бурнаше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667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364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неусло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682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255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682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74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ищи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marL="712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364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Слобод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872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Школа Иннополи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9360" bIns="936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62" name="TextBox 3"/>
          <p:cNvSpPr/>
          <p:nvPr/>
        </p:nvSpPr>
        <p:spPr>
          <a:xfrm>
            <a:off x="0" y="0"/>
            <a:ext cx="89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Результаты   выполнения   заданий   </a:t>
            </a:r>
            <a:r>
              <a:rPr b="1" lang="ru-RU" sz="2400" spc="-1" strike="noStrike">
                <a:solidFill>
                  <a:srgbClr val="c00000"/>
                </a:solidFill>
                <a:latin typeface="Monotype Corsiva"/>
              </a:rPr>
              <a:t>тестовой ча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76320" y="925560"/>
          <a:ext cx="8672400" cy="5394240"/>
        </p:xfrm>
        <a:graphic>
          <a:graphicData uri="http://schemas.openxmlformats.org/drawingml/2006/table">
            <a:tbl>
              <a:tblPr/>
              <a:tblGrid>
                <a:gridCol w="3416040"/>
                <a:gridCol w="1871640"/>
                <a:gridCol w="1783080"/>
                <a:gridCol w="1601640"/>
              </a:tblGrid>
              <a:tr h="2602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К1 (2б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К2 (3б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К3 (2б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334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205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540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.Моркваш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320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252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т.Бурнаше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320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неусло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316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316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ищин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еденско-Слобод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Школа Иннополи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64" name="TextBox 3"/>
          <p:cNvSpPr/>
          <p:nvPr/>
        </p:nvSpPr>
        <p:spPr>
          <a:xfrm>
            <a:off x="324000" y="115920"/>
            <a:ext cx="87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Результаты   выполнения   заданий   </a:t>
            </a:r>
            <a:r>
              <a:rPr b="1" lang="ru-RU" sz="2400" spc="-1" strike="noStrike">
                <a:solidFill>
                  <a:srgbClr val="c00000"/>
                </a:solidFill>
                <a:latin typeface="Monotype Corsiva"/>
              </a:rPr>
              <a:t>по написанию сжатого изложения (</a:t>
            </a:r>
            <a:r>
              <a:rPr b="1" lang="en-US" sz="2400" spc="-1" strike="noStrike">
                <a:solidFill>
                  <a:srgbClr val="c00000"/>
                </a:solidFill>
                <a:latin typeface="Monotype Corsiva"/>
              </a:rPr>
              <a:t>max 7 </a:t>
            </a:r>
            <a:r>
              <a:rPr b="1" lang="ru-RU" sz="2400" spc="-1" strike="noStrike">
                <a:solidFill>
                  <a:srgbClr val="c00000"/>
                </a:solidFill>
                <a:latin typeface="Monotype Corsiva"/>
              </a:rPr>
              <a:t>баллов)</a:t>
            </a: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Сжатое изложение (ИК1-ИК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Объект 5"/>
          <p:cNvGraphicFramePr/>
          <p:nvPr/>
        </p:nvGraphicFramePr>
        <p:xfrm>
          <a:off x="406440" y="1549440"/>
          <a:ext cx="8331120" cy="462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549440"/>
                    <a:ext cx="8331120" cy="46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21T15:36:38Z</dcterms:created>
  <dc:creator>Admin</dc:creator>
  <dc:description/>
  <dc:language>en-US</dc:language>
  <cp:lastModifiedBy>user</cp:lastModifiedBy>
  <dcterms:modified xsi:type="dcterms:W3CDTF">2022-04-15T04:28:15Z</dcterms:modified>
  <cp:revision>74</cp:revision>
  <dc:subject/>
  <dc:title>Слайд 1</dc:title>
</cp:coreProperties>
</file>